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ABA-96C7-4291-864A-4937E4C2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C65-9D0C-4051-AF86-190BE249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7AF-D923-4C94-94BF-9B4C372C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7D6F-E238-4B63-9EA1-48BD0490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C85-6CDA-4D45-B7C6-9308EAEE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8CB-A9E4-49FD-99BD-C905355C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802-26DF-4BE5-8B98-8F324691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2D2-E118-4A19-BB07-18EF9647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64A-99E7-48FB-A3B2-16417314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AC6-4ED6-441F-A950-DFC68D21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41C-89F9-4561-9713-08EC00C8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B39-43D1-4B9D-9A37-A9464335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D5750-B209-4BB9-AD3A-A3CCA72FAD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leão e o rati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93800" y="1619280"/>
            <a:ext cx="44258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m leão, cansado de tanto caçar, dormia espichado debaixo da sombra boa de uma árv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ieram uns ratinhos passear em cima dele e ele acord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dos conseguiram fugir, menos um, que o leão prendeu debaixo da p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anto o ratinho pediu e implorou que o leão desistiu de esmagá-lo e deixou que fosse emb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.Algum tempo depois o leão ficou preso n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de de uns caçad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ão conseguindo se soltar, fazia a floresta inteira tremer com seus urros de ra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isso apareceu o ratinho, e com seus dentes afiados roeu as cordas e soltou o le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al: Uma boa ação ganha ou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167004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19640" y="1440000"/>
            <a:ext cx="4680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0:33:59Z</dcterms:created>
  <dc:creator/>
  <dc:description/>
  <dc:language>en-US</dc:language>
  <cp:lastModifiedBy/>
  <cp:revision>1</cp:revision>
  <dc:subject/>
  <dc:title/>
</cp:coreProperties>
</file>